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A9AA-2C63-473A-A330-1E5AC4C65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983B-27A0-42D0-A094-3E81FDEDF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CD43-B176-45C1-A6FB-2063EE46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86C5-5259-4D95-BF85-51D296539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ED7E-FB93-465F-AB53-A8159C0E2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B6ED-D9F5-4C53-A131-44782ABF0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6E2A-CA0E-4CE8-BF50-804171381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9A3D-986A-4D6E-B242-C97DCE652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A527-7078-4119-A0CD-1166D4D95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B377-220E-48E8-9B95-428F66291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95ED-9FF6-452B-AF3C-647440A20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2D0B-EDDA-43DC-9EA0-801C9C703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B1F6-3A49-43EE-8C14-CC2BBD5CDF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01qs.com/" TargetMode="External"/><Relationship Id="rId2" Type="http://schemas.openxmlformats.org/officeDocument/2006/relationships/hyperlink" Target="http://www.youtube.com/watch?v=jp_oyHY5bu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reencast.com/t/dApzpmm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D2A-6E71-4D8D-B784-2003B45A51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A5C1-CD52-434D-94AB-04A41FD6DF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, e.g. numeric or algebraic or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C747-3340-4536-BF74-7154A7457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or 3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D485-12AC-4B28-842A-C3DBADACBD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there some you kept moving from category to category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8E3-DD84-4DF9-82AB-6022CE356C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B816-B003-45AD-A290-044A5DA58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Secondary Math Teacher/Consultant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F30-71BE-4626-B310-BFDF664EAD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F63-D3F1-474A-AADE-38CE0E7EB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2A0-46D0-4757-B27D-18221A31D2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7BE-7512-459A-A6AF-DAA4BCEDB2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5702-C9BC-482F-AD7E-53855C3B54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red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BC2-CFE3-4F0D-90E7-C6C29DFCA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Program Files\Microsoft Office\MEDIA\OFFICE12\Bullets\BD14691_.gif"/>
          <p:cNvPicPr/>
          <p:nvPr/>
        </p:nvPicPr>
        <p:blipFill>
          <a:blip r:embed="rId1"/>
          <a:stretch/>
        </p:blipFill>
        <p:spPr>
          <a:xfrm>
            <a:off x="838080" y="43480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Program Files\Microsoft Office\MEDIA\OFFICE12\Bullets\BD10264_.gif"/>
          <p:cNvPicPr/>
          <p:nvPr/>
        </p:nvPicPr>
        <p:blipFill>
          <a:blip r:embed="rId2"/>
          <a:stretch/>
        </p:blipFill>
        <p:spPr>
          <a:xfrm>
            <a:off x="8380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532-2BB6-434F-B644-82814F3C90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2E7-A1FD-466F-BBAC-EDD225FCAB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617F-5647-4F0D-8602-A4F6B01A2D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09T02:26:58Z</dcterms:modified>
  <cp:revision>22</cp:revision>
  <dc:subject/>
  <dc:title>&lt;Title&gt;</dc:title>
</cp:coreProperties>
</file>